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4336-4A53-45DD-8387-ED94A301B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9DC8-4107-4473-A4DA-0F8C0B03D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39EE-0958-47EE-9014-E3DE0FB67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6F68-DA9A-42AC-BC17-D5C0A0847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E5A3-92D0-4611-94C0-42BE08B66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59B6-2A28-4530-84C0-6D3BD411A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9421-6960-4BA8-9038-2D84885ED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BD46-7C85-414F-8EEB-C668AEBFC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C5EE-706C-4EA1-B3D2-4D30F37C9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106B-567A-4CDF-857F-768B5CBE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4556-8835-4ED6-A5EC-DE61657D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8008-2F17-43BF-8272-55D3B84A9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D7465-2481-413B-91FE-1984D9088D34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52640"/>
            <a:ext cx="7772400" cy="42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600" spc="-1" strike="noStrike">
                <a:solidFill>
                  <a:srgbClr val="000000"/>
                </a:solidFill>
                <a:latin typeface="Calibri"/>
              </a:rPr>
              <a:t>Weathering Processe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Freeze-Tha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Occurs in areas where the temperature regularly drops below </a:t>
            </a: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0°C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Water enters </a:t>
            </a: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cracks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in the rock during the day. Overnight the temperature drops and the water </a:t>
            </a: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freezes.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As it freezes, it </a:t>
            </a: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expands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e expanded ice places </a:t>
            </a: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pressure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on the rocks around it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Over time this constant pressuring of the rock causes it to </a:t>
            </a: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crack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split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Freeze-Thaw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://fr.academic.ru/pictures/frwiki/87/Weathering_freeze_thaw_action_iceland.jpg"/>
          <p:cNvPicPr/>
          <p:nvPr/>
        </p:nvPicPr>
        <p:blipFill>
          <a:blip r:embed="rId1"/>
          <a:stretch/>
        </p:blipFill>
        <p:spPr>
          <a:xfrm>
            <a:off x="684360" y="1547640"/>
            <a:ext cx="770400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Exfoliation/Onion Sk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ccurs in hot, dry climat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uter layer of the rock i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eat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y the sun during the day, causing it to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pand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uring the night, as the temperature drops, the rock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trac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constant expanding and contracting eventually leads to the outer layers of the rock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ealing away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leaving behind them rounded rocks and dome shape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utcrop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Exfoliation/Onion Sk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http://www.stacey.peak-media.co.uk/bude-walk/800-08220038.jpg"/>
          <p:cNvPicPr/>
          <p:nvPr/>
        </p:nvPicPr>
        <p:blipFill>
          <a:blip r:embed="rId1"/>
          <a:stretch/>
        </p:blipFill>
        <p:spPr>
          <a:xfrm>
            <a:off x="2411280" y="1484280"/>
            <a:ext cx="396108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Hydrol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tacks rocks, which include feldspar crystals, the most common example being grani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eldspar reacts with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cidic rainwat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ssolv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form kaolin (china clay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emainder of the rock breaks up into its individual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rystal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verti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Hydrol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http://www.tafoni.com/Weathering_files/Tafoni_Pholad_1.jpg"/>
          <p:cNvPicPr/>
          <p:nvPr/>
        </p:nvPicPr>
        <p:blipFill>
          <a:blip r:embed="rId1"/>
          <a:stretch/>
        </p:blipFill>
        <p:spPr>
          <a:xfrm>
            <a:off x="1116000" y="1530360"/>
            <a:ext cx="691056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Carbonation And S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ccurs on rocks containing calcium carbonate, such a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imesto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al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inwater and dissolved carbon dioxide mix to form a weak carbonic aci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cium carbonate in the rocks reacts with the acidic water and dissolves leaving behind calcium bicarbona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compound is soluble and is easily washed away by running w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Carbonation And S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www.geographylwc.org.uk/GCSE/igcse/weathering/images/stalags.jpg"/>
          <p:cNvPicPr/>
          <p:nvPr/>
        </p:nvPicPr>
        <p:blipFill>
          <a:blip r:embed="rId1"/>
          <a:stretch/>
        </p:blipFill>
        <p:spPr>
          <a:xfrm>
            <a:off x="1258920" y="1422360"/>
            <a:ext cx="6626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03:50:49Z</dcterms:created>
  <dc:creator>Dell_02</dc:creator>
  <dc:description/>
  <dc:language>en-US</dc:language>
  <cp:lastModifiedBy>Dell_02</cp:lastModifiedBy>
  <dcterms:modified xsi:type="dcterms:W3CDTF">2011-01-26T04:09:23Z</dcterms:modified>
  <cp:revision>2</cp:revision>
  <dc:subject/>
  <dc:title>Weathering Processes</dc:title>
</cp:coreProperties>
</file>